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3B8-87FF-4F85-B0DD-D3208D97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0FE-9D55-417A-805A-07C4A2BD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9BC-ABDD-4541-A007-AC0C2F48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121-0614-40B9-8445-26CE6A51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6EC6-3573-4BA3-A0AC-EF14B7A0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2045-6D16-4D39-B527-6EF0CBC6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47E8-A473-4D02-9BC7-DFAEBF32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EAAC-87AD-4ACF-A8B7-2EC3E433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21CF-339C-4796-9684-0E61D0C9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E558-6F02-4C53-995D-FF3D4C0B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250A-C2E6-4C66-9B05-1FD49910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BFE-7C54-43B7-9927-DEA3B331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82AE-5E02-4AB4-9603-6F9B4F39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4032-F655-44E8-8D9E-BBBE39D9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655D-C428-4703-B171-5FD28460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CBBE-F482-4A2A-B811-B5E09584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1D0C-8451-4640-AB2E-88691919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8A7-8F99-40FD-BA15-657C761E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7E29-8F84-4430-A4C8-C0DCE47C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2C5-44F2-4529-9363-E775A9A9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F00D-B36C-4263-B6E8-A6AA7BEB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175-E45E-44FC-A232-857B6A9C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ED5-5FA0-4E90-BB21-84500F33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F43-3167-401D-BD67-2339BA74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84DA-DCFD-4FB7-B9CB-C9F6C1B70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D627-966C-40A2-91A9-9C6DC7990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MOD: System Architecture &amp; Integr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y 2003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Adaptors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05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11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4419720"/>
            <a:ext cx="0" cy="865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59360" y="4419720"/>
            <a:ext cx="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3657600"/>
            <a:ext cx="2590560" cy="68580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ed Ada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3323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55308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24280" y="3657600"/>
            <a:ext cx="2590920" cy="685800"/>
          </a:xfrm>
          <a:prstGeom prst="rect">
            <a:avLst/>
          </a:prstGeom>
          <a:solidFill>
            <a:srgbClr val="f5a2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an Ada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Xchange Format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28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34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05320" y="4419720"/>
            <a:ext cx="0" cy="865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59360" y="4419720"/>
            <a:ext cx="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3323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55308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3581280"/>
            <a:ext cx="38862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eige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Service Architecture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50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56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505320" y="4343400"/>
            <a:ext cx="45720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4343400"/>
            <a:ext cx="220680" cy="914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2133360" y="2590920"/>
            <a:ext cx="297180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2057400" y="2666520"/>
            <a:ext cx="175248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00400" y="3581280"/>
            <a:ext cx="13716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Get Bei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3581280"/>
            <a:ext cx="13716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ut Bei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67080" y="4343400"/>
            <a:ext cx="144000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657240" y="4343400"/>
            <a:ext cx="1600200" cy="914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3962520" y="2590920"/>
            <a:ext cx="137160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3657600" y="2666520"/>
            <a:ext cx="38088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267080" y="2742840"/>
            <a:ext cx="762120" cy="685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495680" y="2666520"/>
            <a:ext cx="205740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ser installation &amp; integr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cumenta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rectory struc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figuration fil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veloper extensibility &amp; maintainabilit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ow do the modules interact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User installation &amp; integr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ackaging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pendencies, updates, version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README &amp; HOWTO file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ite-specific vs common configuratio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edictable directory structur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User support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ug tracking &amp; feature reques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Times New Roman"/>
              </a:rPr>
              <a:t>How do the Modules Interact?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6900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988320" y="3760920"/>
            <a:ext cx="1317600" cy="810720"/>
            <a:chOff x="6988320" y="3760920"/>
            <a:chExt cx="1317600" cy="810720"/>
          </a:xfrm>
        </p:grpSpPr>
        <p:sp>
          <p:nvSpPr>
            <p:cNvPr id="94" name=""/>
            <p:cNvSpPr/>
            <p:nvPr/>
          </p:nvSpPr>
          <p:spPr>
            <a:xfrm>
              <a:off x="6988320" y="41670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88320" y="40320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88320" y="38955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88320" y="37609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371600" y="3352680"/>
            <a:ext cx="917280" cy="1429920"/>
            <a:chOff x="1371600" y="3352680"/>
            <a:chExt cx="917280" cy="1429920"/>
          </a:xfrm>
        </p:grpSpPr>
        <p:sp>
          <p:nvSpPr>
            <p:cNvPr id="99" name=""/>
            <p:cNvSpPr/>
            <p:nvPr/>
          </p:nvSpPr>
          <p:spPr>
            <a:xfrm>
              <a:off x="1371600" y="335268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8520" y="3591720"/>
              <a:ext cx="681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64840" y="401400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87840" y="401400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454800" y="2236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25800" y="2313000"/>
            <a:ext cx="1317600" cy="810720"/>
            <a:chOff x="3025800" y="2313000"/>
            <a:chExt cx="1317600" cy="810720"/>
          </a:xfrm>
        </p:grpSpPr>
        <p:sp>
          <p:nvSpPr>
            <p:cNvPr id="105" name=""/>
            <p:cNvSpPr/>
            <p:nvPr/>
          </p:nvSpPr>
          <p:spPr>
            <a:xfrm>
              <a:off x="3025800" y="27190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25800" y="25840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25800" y="244764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25800" y="231300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559320" y="4827600"/>
            <a:ext cx="1317600" cy="810720"/>
            <a:chOff x="3559320" y="4827600"/>
            <a:chExt cx="1317600" cy="810720"/>
          </a:xfrm>
        </p:grpSpPr>
        <p:sp>
          <p:nvSpPr>
            <p:cNvPr id="110" name=""/>
            <p:cNvSpPr/>
            <p:nvPr/>
          </p:nvSpPr>
          <p:spPr>
            <a:xfrm>
              <a:off x="3559320" y="52336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9320" y="50986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59320" y="496224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59320" y="482760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68400" y="536112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49680" y="34560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438280" y="4038480"/>
            <a:ext cx="1958760" cy="1008360"/>
            <a:chOff x="2438280" y="4038480"/>
            <a:chExt cx="1958760" cy="1008360"/>
          </a:xfrm>
        </p:grpSpPr>
        <p:sp>
          <p:nvSpPr>
            <p:cNvPr id="117" name=""/>
            <p:cNvSpPr/>
            <p:nvPr/>
          </p:nvSpPr>
          <p:spPr>
            <a:xfrm>
              <a:off x="2438280" y="4079520"/>
              <a:ext cx="1958760" cy="9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24440" y="4038480"/>
              <a:ext cx="511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d57a0b"/>
                  </a:solidFill>
                  <a:latin typeface="Century Schoolbook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H="1">
            <a:off x="2263320" y="5078520"/>
            <a:ext cx="1219320" cy="4078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55840" y="4903920"/>
            <a:ext cx="69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49880" y="3983040"/>
            <a:ext cx="685800" cy="1602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49880" y="3075120"/>
            <a:ext cx="6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006520" y="4522680"/>
            <a:ext cx="1219320" cy="1008360"/>
            <a:chOff x="5006520" y="4522680"/>
            <a:chExt cx="1219320" cy="1008360"/>
          </a:xfrm>
        </p:grpSpPr>
        <p:sp>
          <p:nvSpPr>
            <p:cNvPr id="124" name=""/>
            <p:cNvSpPr/>
            <p:nvPr/>
          </p:nvSpPr>
          <p:spPr>
            <a:xfrm flipH="1">
              <a:off x="5006520" y="4697280"/>
              <a:ext cx="1219320" cy="407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437440" y="4522680"/>
              <a:ext cx="696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d57a0b"/>
                  </a:solidFill>
                  <a:latin typeface="Century Schoolbook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H="1">
            <a:off x="6759720" y="4675320"/>
            <a:ext cx="838080" cy="8190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57280" y="4675320"/>
            <a:ext cx="65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549320" y="261792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161680" y="1752480"/>
            <a:ext cx="100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92880" y="3151080"/>
            <a:ext cx="152640" cy="53352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07160" y="2922480"/>
            <a:ext cx="6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514600" y="2770200"/>
            <a:ext cx="434880" cy="73512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69400" y="2895480"/>
            <a:ext cx="100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320" y="1552680"/>
            <a:ext cx="1828800" cy="1724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1600200"/>
            <a:ext cx="7772400" cy="487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562720" y="2590920"/>
            <a:ext cx="25905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294920" y="2590920"/>
            <a:ext cx="25909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lly Integrated MOD Applic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43360" y="3392280"/>
            <a:ext cx="0" cy="175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84560" y="4203720"/>
            <a:ext cx="1317600" cy="404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84560" y="406872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84560" y="393228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84560" y="379728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284720" y="1905120"/>
            <a:ext cx="917280" cy="1429920"/>
            <a:chOff x="4284720" y="1905120"/>
            <a:chExt cx="917280" cy="1429920"/>
          </a:xfrm>
        </p:grpSpPr>
        <p:sp>
          <p:nvSpPr>
            <p:cNvPr id="145" name=""/>
            <p:cNvSpPr/>
            <p:nvPr/>
          </p:nvSpPr>
          <p:spPr>
            <a:xfrm>
              <a:off x="4284720" y="190512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91640" y="2144160"/>
              <a:ext cx="681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7960" y="256644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00960" y="256644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3828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1940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0088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624120" y="4743360"/>
            <a:ext cx="658800" cy="5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204880" y="4743360"/>
            <a:ext cx="659160" cy="5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7432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7432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90720" y="2133720"/>
            <a:ext cx="175248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Vertical Toolki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6696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08160" y="4584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08160" y="4449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08160" y="4313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08160" y="4178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07960" y="2286000"/>
            <a:ext cx="917280" cy="1429920"/>
            <a:chOff x="1407960" y="2286000"/>
            <a:chExt cx="917280" cy="1429920"/>
          </a:xfrm>
        </p:grpSpPr>
        <p:sp>
          <p:nvSpPr>
            <p:cNvPr id="164" name=""/>
            <p:cNvSpPr/>
            <p:nvPr/>
          </p:nvSpPr>
          <p:spPr>
            <a:xfrm>
              <a:off x="140796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1488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0120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2420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14300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2133720"/>
            <a:ext cx="175284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68648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27320" y="4584600"/>
            <a:ext cx="131796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27320" y="4449600"/>
            <a:ext cx="131796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27320" y="4313160"/>
            <a:ext cx="131796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27320" y="4178160"/>
            <a:ext cx="131796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227480" y="2286000"/>
            <a:ext cx="917280" cy="1429920"/>
            <a:chOff x="4227480" y="2286000"/>
            <a:chExt cx="917280" cy="1429920"/>
          </a:xfrm>
        </p:grpSpPr>
        <p:sp>
          <p:nvSpPr>
            <p:cNvPr id="176" name=""/>
            <p:cNvSpPr/>
            <p:nvPr/>
          </p:nvSpPr>
          <p:spPr>
            <a:xfrm>
              <a:off x="422748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3440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2072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4372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96252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2133720"/>
            <a:ext cx="175248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50564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6840" y="4584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46840" y="4449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6840" y="4313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46840" y="4178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047000" y="2286000"/>
            <a:ext cx="917280" cy="1429920"/>
            <a:chOff x="7047000" y="2286000"/>
            <a:chExt cx="917280" cy="1429920"/>
          </a:xfrm>
        </p:grpSpPr>
        <p:sp>
          <p:nvSpPr>
            <p:cNvPr id="188" name=""/>
            <p:cNvSpPr/>
            <p:nvPr/>
          </p:nvSpPr>
          <p:spPr>
            <a:xfrm>
              <a:off x="704700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5392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4024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6324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78168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0200" y="1709640"/>
            <a:ext cx="197604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2720" y="1714680"/>
            <a:ext cx="2416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14840" y="1714680"/>
            <a:ext cx="2119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flipH="1" flipV="1">
            <a:off x="1828440" y="2971800"/>
            <a:ext cx="1143000" cy="1905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190760" y="4266720"/>
            <a:ext cx="1066680" cy="685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ederated Toolki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00480" y="3352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233440" y="5029200"/>
            <a:ext cx="1317960" cy="810720"/>
            <a:chOff x="2233440" y="5029200"/>
            <a:chExt cx="1317960" cy="810720"/>
          </a:xfrm>
        </p:grpSpPr>
        <p:sp>
          <p:nvSpPr>
            <p:cNvPr id="201" name=""/>
            <p:cNvSpPr/>
            <p:nvPr/>
          </p:nvSpPr>
          <p:spPr>
            <a:xfrm>
              <a:off x="2233440" y="5435280"/>
              <a:ext cx="131796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33440" y="5300280"/>
              <a:ext cx="131796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33440" y="5163840"/>
              <a:ext cx="131796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33440" y="5029200"/>
              <a:ext cx="131796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724280" y="1371600"/>
            <a:ext cx="917280" cy="1429920"/>
            <a:chOff x="4724280" y="1371600"/>
            <a:chExt cx="917280" cy="1429920"/>
          </a:xfrm>
        </p:grpSpPr>
        <p:sp>
          <p:nvSpPr>
            <p:cNvPr id="206" name=""/>
            <p:cNvSpPr/>
            <p:nvPr/>
          </p:nvSpPr>
          <p:spPr>
            <a:xfrm>
              <a:off x="4724280" y="13716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31200" y="161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17520" y="20329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40520" y="20329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662440" y="3352680"/>
            <a:ext cx="144972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5958000"/>
            <a:ext cx="146700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50160" y="5958000"/>
            <a:ext cx="190728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9600" y="5958000"/>
            <a:ext cx="161028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633920" y="5029200"/>
            <a:ext cx="1317600" cy="810720"/>
            <a:chOff x="4633920" y="5029200"/>
            <a:chExt cx="1317600" cy="810720"/>
          </a:xfrm>
        </p:grpSpPr>
        <p:sp>
          <p:nvSpPr>
            <p:cNvPr id="215" name=""/>
            <p:cNvSpPr/>
            <p:nvPr/>
          </p:nvSpPr>
          <p:spPr>
            <a:xfrm>
              <a:off x="4633920" y="5435280"/>
              <a:ext cx="1317600" cy="40464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33920" y="5300280"/>
              <a:ext cx="1317600" cy="40464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33920" y="5163840"/>
              <a:ext cx="1317600" cy="40608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33920" y="5029200"/>
              <a:ext cx="1317600" cy="40608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034040" y="5029200"/>
            <a:ext cx="1317960" cy="810720"/>
            <a:chOff x="7034040" y="5029200"/>
            <a:chExt cx="1317960" cy="810720"/>
          </a:xfrm>
        </p:grpSpPr>
        <p:sp>
          <p:nvSpPr>
            <p:cNvPr id="220" name=""/>
            <p:cNvSpPr/>
            <p:nvPr/>
          </p:nvSpPr>
          <p:spPr>
            <a:xfrm>
              <a:off x="7034040" y="5435280"/>
              <a:ext cx="1317960" cy="40464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34040" y="5300280"/>
              <a:ext cx="1317960" cy="40464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34040" y="5163840"/>
              <a:ext cx="1317960" cy="40608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34040" y="5029200"/>
              <a:ext cx="1317960" cy="40608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57200" y="2209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523880" y="4038480"/>
            <a:ext cx="99072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428640" y="4191120"/>
            <a:ext cx="2514600" cy="6858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562720" y="4191120"/>
            <a:ext cx="838080" cy="76176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4191120"/>
            <a:ext cx="685800" cy="6858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4724280" y="4038480"/>
            <a:ext cx="2286000" cy="990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334120" y="2895480"/>
            <a:ext cx="45720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72000" y="2895480"/>
            <a:ext cx="45720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24080" y="4267080"/>
            <a:ext cx="533520" cy="6098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URL Link Integration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3657600"/>
            <a:ext cx="175248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86696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08160" y="533700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08160" y="524016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08160" y="514368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08160" y="504684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407960" y="3689280"/>
            <a:ext cx="917280" cy="1025280"/>
            <a:chOff x="1407960" y="3689280"/>
            <a:chExt cx="917280" cy="1025280"/>
          </a:xfrm>
        </p:grpSpPr>
        <p:sp>
          <p:nvSpPr>
            <p:cNvPr id="242" name=""/>
            <p:cNvSpPr/>
            <p:nvPr/>
          </p:nvSpPr>
          <p:spPr>
            <a:xfrm>
              <a:off x="140796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488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0120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2420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14300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3657600"/>
            <a:ext cx="175284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68648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7320" y="5337000"/>
            <a:ext cx="131796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7320" y="5240160"/>
            <a:ext cx="131796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27320" y="5143680"/>
            <a:ext cx="131796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7320" y="5046840"/>
            <a:ext cx="131796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227480" y="3689280"/>
            <a:ext cx="917280" cy="1025280"/>
            <a:chOff x="4227480" y="3689280"/>
            <a:chExt cx="917280" cy="1025280"/>
          </a:xfrm>
        </p:grpSpPr>
        <p:sp>
          <p:nvSpPr>
            <p:cNvPr id="254" name=""/>
            <p:cNvSpPr/>
            <p:nvPr/>
          </p:nvSpPr>
          <p:spPr>
            <a:xfrm>
              <a:off x="422748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3440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2072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4372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96252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3657600"/>
            <a:ext cx="175248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50564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46840" y="533700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46840" y="524016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46840" y="514368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46840" y="504684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047000" y="3689280"/>
            <a:ext cx="917280" cy="1025280"/>
            <a:chOff x="7047000" y="3689280"/>
            <a:chExt cx="917280" cy="1025280"/>
          </a:xfrm>
        </p:grpSpPr>
        <p:sp>
          <p:nvSpPr>
            <p:cNvPr id="266" name=""/>
            <p:cNvSpPr/>
            <p:nvPr/>
          </p:nvSpPr>
          <p:spPr>
            <a:xfrm>
              <a:off x="704700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5392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4024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6324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678168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0200" y="3200400"/>
            <a:ext cx="197604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2720" y="3203640"/>
            <a:ext cx="2416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14840" y="3203640"/>
            <a:ext cx="2119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41274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4120" y="41274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Cloud"/>
          <p:cNvSpPr/>
          <p:nvPr/>
        </p:nvSpPr>
        <p:spPr>
          <a:xfrm>
            <a:off x="2209680" y="1219320"/>
            <a:ext cx="4419720" cy="152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URL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3920" y="2827440"/>
            <a:ext cx="237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genome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1600" y="281952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stock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57760" y="281160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lit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Common Data Model &amp; API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1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122640" y="5208480"/>
            <a:ext cx="1317600" cy="811440"/>
            <a:chOff x="3122640" y="5208480"/>
            <a:chExt cx="1317600" cy="811440"/>
          </a:xfrm>
        </p:grpSpPr>
        <p:sp>
          <p:nvSpPr>
            <p:cNvPr id="283" name=""/>
            <p:cNvSpPr/>
            <p:nvPr/>
          </p:nvSpPr>
          <p:spPr>
            <a:xfrm>
              <a:off x="3122640" y="5614920"/>
              <a:ext cx="1317600" cy="40500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22640" y="5479920"/>
              <a:ext cx="1317600" cy="40500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22640" y="5343480"/>
              <a:ext cx="1317600" cy="4064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22640" y="5208480"/>
              <a:ext cx="1317600" cy="4064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018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089680" y="5208480"/>
            <a:ext cx="1317600" cy="811440"/>
            <a:chOff x="5089680" y="5208480"/>
            <a:chExt cx="1317600" cy="811440"/>
          </a:xfrm>
        </p:grpSpPr>
        <p:sp>
          <p:nvSpPr>
            <p:cNvPr id="289" name=""/>
            <p:cNvSpPr/>
            <p:nvPr/>
          </p:nvSpPr>
          <p:spPr>
            <a:xfrm>
              <a:off x="5089680" y="5614920"/>
              <a:ext cx="1317600" cy="40500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89680" y="5479920"/>
              <a:ext cx="1317600" cy="40500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89680" y="5343480"/>
              <a:ext cx="1317600" cy="4064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89680" y="5208480"/>
              <a:ext cx="1317600" cy="4064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440" y="4267080"/>
            <a:ext cx="0" cy="86544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13560" y="4267080"/>
            <a:ext cx="0" cy="83844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41760" y="3505320"/>
            <a:ext cx="3886200" cy="685800"/>
          </a:xfrm>
          <a:prstGeom prst="rect">
            <a:avLst/>
          </a:prstGeom>
          <a:solidFill>
            <a:srgbClr val="f1c58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mmon Schema/A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1037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39936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5-06T18:12:16Z</dcterms:modified>
  <cp:revision>560</cp:revision>
  <dc:subject/>
  <dc:title>Training</dc:title>
</cp:coreProperties>
</file>